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5F24-D4DD-4509-A885-C59A27D7E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on the white board, demonstrate alternate way to convert from decimal to binary: repeatedly divide by 2; the string of remainders gives you your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212B-3D96-477C-9E5F-622DEF753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trick a few times. Then pass out the cards and task the students with figuring out how the trick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AD0A-C0D2-40B2-B951-833E85994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9EC-E20B-48FC-8FBE-0AEEF1DD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2BC-CF3E-4602-8067-3FC4AD84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0E2-EBA8-4D1D-BE53-BF7FAE0D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827-DD84-49C8-AB1F-FD45C38C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514-F1D1-4733-B776-11D866F1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E6F-5B1C-4404-AC19-CE36966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3F0-87AB-4ACC-BAF0-DD3D1412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95D-0F63-40B9-BC86-934C76F3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68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4C9-C441-413F-B069-A0A4991E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3D2-5852-4425-8502-42052274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128-D834-4E3D-851C-5B585CB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83A-2147-446E-9BCA-0AF035E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D3D2-62CE-40C5-8961-E080722D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190512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inary Number Syste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damental building block for digital electronics and most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rcRect l="0" t="20487" r="70313" b="50407"/>
          <a:stretch/>
        </p:blipFill>
        <p:spPr>
          <a:xfrm>
            <a:off x="6019920" y="30492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ow and Tel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ome items from the Karweit computer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memory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ses in Number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how numbers work in base-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igit in a number has a value which depends on its position in th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-most digit tells us how many One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Ten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Hundreds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from right to left, each digit is “worth” 10 times more than the previous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ses in Number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, or Base-2, works in much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-most digit tells us how many One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Two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Fours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Eight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from right to left, each digit is “worth” 2 times more than the previous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ase-10, the possible digit values range from 0 – 9; in Base-2, the only possible values are 0 and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t’s practice Counting in Binary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17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tent Placeholder 4"/>
          <p:cNvSpPr/>
          <p:nvPr/>
        </p:nvSpPr>
        <p:spPr>
          <a:xfrm>
            <a:off x="510552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ew practice convers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Base-10:   10101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from right to lef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0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+ 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0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0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+ 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0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Binary:  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2009 = 1024 + 512 + 256 + 128 + 64 + 16 + 8 + 1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in Binary: 1111101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w, Time for a Joke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 that there are 10  kinds of people in the 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who understand binary, and those who don’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ahaha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iley Face 3"/>
          <p:cNvSpPr/>
          <p:nvPr/>
        </p:nvSpPr>
        <p:spPr>
          <a:xfrm>
            <a:off x="7848720" y="609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d Tricks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4688" t="43129" r="54689" b="37469"/>
          <a:stretch/>
        </p:blipFill>
        <p:spPr>
          <a:xfrm>
            <a:off x="533520" y="1066680"/>
            <a:ext cx="814536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45314" t="43531" r="13280" b="38142"/>
          <a:stretch/>
        </p:blipFill>
        <p:spPr>
          <a:xfrm>
            <a:off x="457200" y="3809880"/>
            <a:ext cx="81532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ctal and Hexadecim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16002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numbers can be a bit cumbersome, because they have so many digits. It is common in computer science applications to also represent numbers in octal (base-8) and hexadecimal (base-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2009, which is 11111011001 in binary. To convert to octal, group the digits in 3’s from right to left. To convert to hexadecimal, use groups of 4 dig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111011001                11111011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 rot="5400000">
            <a:off x="3157560" y="4535640"/>
            <a:ext cx="3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 rot="5400000">
            <a:off x="2432160" y="4535640"/>
            <a:ext cx="3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 rot="5400000">
            <a:off x="1682640" y="4535640"/>
            <a:ext cx="3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5400000">
            <a:off x="957240" y="4535640"/>
            <a:ext cx="3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85800" y="5257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     7          3          1 (oc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 rot="5400000">
            <a:off x="7906680" y="4468320"/>
            <a:ext cx="3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 rot="5400000">
            <a:off x="6922080" y="4474800"/>
            <a:ext cx="3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 rot="5400000">
            <a:off x="5922000" y="4474800"/>
            <a:ext cx="3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5562720" y="5486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           d             9  (h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9:11:18Z</dcterms:created>
  <dc:creator>jerome.clifford</dc:creator>
  <dc:description/>
  <dc:language>en-US</dc:language>
  <cp:lastModifiedBy>whitneyw</cp:lastModifiedBy>
  <dcterms:modified xsi:type="dcterms:W3CDTF">2009-07-10T18:36:20Z</dcterms:modified>
  <cp:revision>37</cp:revision>
  <dc:subject/>
  <dc:title>Slide 1</dc:title>
</cp:coreProperties>
</file>